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162-E732-4CB8-B06F-9738EAB6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CD5-6BB4-48B5-80ED-21D42D3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4E3-1695-4083-BFBF-929FAFA3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4B6-918F-4329-AFDA-77ECBF40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FE7-8C9C-4572-950A-9AABD64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1CB-C426-422D-B009-91EC1804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2FF-0756-4DB6-9F34-40E2947D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C55-4489-4385-8223-3D76887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EBF-86B2-4BEA-8429-339AC915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1F4-AF3B-4E67-9EB7-79689D8A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D6D-DED9-40CF-97FE-51AB855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E0B-7C20-4821-8FC5-A5A4604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FB9-9BD3-4A68-BAA2-92D461CE6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tur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scientific inquiry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ctivity and think about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ladmin</cp:lastModifiedBy>
  <dcterms:modified xsi:type="dcterms:W3CDTF">2015-01-26T01:21:09Z</dcterms:modified>
  <cp:revision>24</cp:revision>
  <dc:subject/>
  <dc:title>Slide 1</dc:title>
</cp:coreProperties>
</file>